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20DE-FF77-485A-9978-733CB7C0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792-0676-4708-9B09-AF3C1197B4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9ED-C72B-42E1-B7D8-C199F2225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944D-16B1-4A70-845F-231547E146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94C7-8B1C-4B27-8E96-8C8971071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C565-0324-46C0-B678-2B671BF9F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7BE-285D-4A51-8C98-E2282354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749-8BC4-4560-A368-C334550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A69-E13E-44C7-BFAA-E83C1ACC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EB7-A479-4C2D-936D-52B3D0F7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2E8-768E-4158-8652-EFD2EB58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E351-4A58-4249-8FEE-01B89DCA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D31B-9189-47A0-BB9E-DBE6476D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8790-5F02-4DFB-A3FD-8CC36BD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1188-0A65-4984-B079-2FC8FCE7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98F7-6A26-4FED-83CD-22531EFF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9F90-9075-4FAE-AA1A-8CCD50A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307-30F6-400D-B602-55352D7E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45CB-0321-4001-936B-ABFE0FA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1D6-363F-46E3-97A0-CA67540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DF56-0FDB-4FC3-98EB-4ED72E20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BBAA-FC48-4D7A-BC99-94B3F634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678-355B-4B0E-86AA-87A0E130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92F-3CC2-4FC0-AC53-D7FA13E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723-DC2A-44D8-A2D0-398BB9E8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8A8-BBC7-460F-9C5B-C8661720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978-8A21-43D8-BC04-588C459F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B71-FEDD-4C0F-87A9-33E1E48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8C6-088B-419A-A614-9A25B0F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FF0-D0A4-44F9-8795-3111170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582-676A-42C3-AA2A-7717BCD3ED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774-D942-4C2C-9315-CDAE8DA063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HILOSOPHICAL FOUNDATI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ON FOR PHILOSO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 WITH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 WITH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 WITH OTHER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ICULUM CONCENTRA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QUISITION OF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 AND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COGNIZING ACADEMIC EXCELL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“ACADEMIC SCHOLAR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E IMPR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 TOP SCHOL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ASSEMB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RICHMENT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ER T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BUSINESS AND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E COMPET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 STUDY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6:58:40Z</dcterms:created>
  <dc:creator>allen d Eury</dc:creator>
  <dc:description/>
  <dc:language>en-US</dc:language>
  <cp:lastModifiedBy>User</cp:lastModifiedBy>
  <dcterms:modified xsi:type="dcterms:W3CDTF">2012-08-22T18:07:56Z</dcterms:modified>
  <cp:revision>5</cp:revision>
  <dc:subject/>
  <dc:title>Slide 1</dc:title>
</cp:coreProperties>
</file>